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EC24D-0586-4EFC-9C23-38CA58FBB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87A5A-E71C-46EB-B2CB-9ED662EF1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191615-6E5C-4F8C-9434-CF379BCEC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B654A2-73E1-4A5F-83A4-9107F43721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1AE265-C017-4AFF-A6BB-CB9453723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C4A8B-30B1-42CA-8146-43C8AFBFC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07520-6C35-4D8B-86CB-A94114B167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AE0C5D-A89E-41BC-A4BA-9D9917B151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59D1EE-261E-4941-9BA8-65079F9F6A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517DC4-D3E2-4998-9F65-6BAC8427E5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7C8384-9CC5-43F5-9FEB-94E2BC57B7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92624E-0677-4A67-B834-116019ED2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C9849-1048-44A1-91D4-9DF2E1CF9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1BB3E5-1A1D-412B-8B98-80D149FD72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BB62A-A61F-4A73-8D9F-A9C93E3B5B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343D4-9782-438E-ABB2-ABAAB95EA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424BE-27FA-46F4-A2DC-B23D0FC6E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B752E-03DC-4E04-97ED-0CB0615D8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3315CF-A761-4956-B9D7-699087F0A8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ABD34A-FD44-4435-B0EB-80A13A5CDB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BDDE25-F5D0-4406-B71C-0636F03658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8C3920-4D1B-48EB-B42C-A8F1E0B999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EC40A-D273-448F-A712-862B7CD0EB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80ABD5-6C6F-4188-8B0E-ED31F0A22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1696EF-83D2-4FFB-8EC8-794785CBC1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DA73C-5B45-4CC9-A1BD-0A476A10F6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9BC3FE-D28B-4FA7-A3B2-15B382108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A1D58D-61F6-49F5-B654-9E8047207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22A4D-6BE2-40E2-B420-D21D5E6C4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0EC9E-A8D6-4E84-B9D4-C7DD1D0FD5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A0E86-8795-4221-9312-B9EB5F364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73406E-FB28-471D-93B2-7B80673697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DC0516-B9CA-47D0-A88D-F1AB7962B3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7285D8-4A21-4E1B-BBA0-CBAC471EF5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9CB1A6-BF2A-407D-9C8B-5420044669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49B9DB-5B21-44C0-8CE8-6963B8C013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675E3C-F019-4687-86CB-D6E4CD8ED5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34CA65-FF1B-48B2-8032-75FAA0289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136EEE-77F4-4E83-8297-08887AFBBB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2E8D22-4161-4D35-AA40-FAFC0C7146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7A4DDA-8522-476D-9B9C-AE45456C71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E3680-69E6-44EA-A0A7-D87548AA7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B3418A-3D5B-4E78-BDE1-A7B14329C9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E0C5D0-C916-4390-8AB3-018E80A34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63360B-35F7-43C4-97B0-FE83849EBB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E63EF2-E03C-483D-9956-ECFA8A687D3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0105FB-BD7D-43AD-94B6-09AEB2BA7C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63D41F-612B-4B3E-8507-13C5A01112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125C3A-B3B3-4E9B-95B5-DA8F2865D4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615AF2-D229-417D-9F05-D3C74FA695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0CCBCB-7151-4019-A6C9-7B5B2F0F5C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DBC454-EE8C-4868-BABB-9E73104F10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1EAC-6254-46EB-BB60-B11355D2F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BFAB7F-AED7-43D1-B5D6-F0B9457101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A8FC09-7C78-4BCC-90AE-94D3B28A51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1858D0-71AC-427A-9AF5-2E26AE0E26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BE9D26-7E30-4757-9D93-19F147D910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CFBE69-EC47-46A2-8C98-95DE34E4E2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4FEB3B-3BA3-4429-97B5-4E1EC20FB8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78D544-5450-4402-B25D-BA8185F703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BDD6-6917-4901-945D-B36E5104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1DB2-503E-47C8-A34B-09F0720F5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839FC-DAF9-423A-912B-36CFE96D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8BD5-2543-4A69-80A8-C02CE71F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2269-C543-4F33-84B9-E6B488738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7757E-730F-453F-B031-E4988B39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FABF-4AA7-4F3B-A272-E44A901E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E0198-20AC-406B-A25B-5F16ECD19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4C79F-14A7-4815-8AB4-245973BAE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F8075-FEED-45A6-B4A5-1C0121CE8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C94DC-1CAF-4FF0-871E-9D2BBA2A5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DB0B6-878B-47FF-A1A9-35D44F9FD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FCB61-CC9E-4EF8-B063-2F418E7B1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CF8D-5089-4A30-A98C-E4B49AA7F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93667-B1EF-4069-B1A1-3F465DF49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BD9CF-C230-4BA4-B925-363D49C0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BC8B4-44DF-478F-99E9-BDA637AA8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84CDE-E70C-434B-BDAA-60EF8D0DB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94315-79B2-4733-8669-96334321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75213-1379-4216-B274-4CE6BE248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A1C6F-5B9D-4407-B53C-6DE3F339C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5A2694-B8D9-4B5E-9D3F-1F3EA2CD0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36137-FFFA-4670-BACA-B53587167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44CC7B-1E4A-49DC-9264-1FB0F4A38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931C8-B3E6-4022-906F-8C509BAF9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5A88C-E571-4220-9FC5-F3A7C5BF8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B91DA-5266-4ED4-9992-559BBDF48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0678D-8479-4CDF-B53C-6D22D9BA9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EFD2E3-16C4-4C30-8F51-7B41E7723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E5D9B-B538-4C58-B83B-86CF3ABC2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23176-2BDA-4567-A67F-56178EB370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DB72C3-8895-48AB-A662-533AD59507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3C3E48-1B0D-4BB7-9F62-C5CD51BEA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5EDE3-742C-44B3-B217-FB2B55D80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6EEF71-941F-4A58-8C46-C53EC54E7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74E72A-838F-435D-BF58-B70863E40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BBA16-3E95-446A-86F1-FFC224622B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B1D17-7081-49A2-B641-ADC64D0DD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B69170-4ECC-4DF0-A15C-A149C05C1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8662A-1250-475F-B879-201EE95D8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6E695-50B3-45EB-8BDF-41BC0FC65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6F976-DD0F-46C6-B299-7C621E90F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4F0D5-3AD1-4C20-A780-F200870F9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68052-2A34-4D51-878F-A332B8D41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1C20F-15D9-4305-9228-38F9F7FCA9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6F9B24-1A9D-48BD-807F-99FF7CC4F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A555F-3BB9-4A5A-B849-01411C4EE9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8A879-0A10-4467-A7D9-D08458F62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F3DBFC-17B4-4C4D-B373-9281B48059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1E785-7A66-4EC1-B3C4-3B99EF7B8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F83627-90F3-4175-8BEE-A9212FE59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F1AD6-BA0C-4D56-895E-2AC046C1B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1D004-061A-4312-AA32-0D95DB980E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0B02E-EB48-41C0-B4B4-BF7DAFD4A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9EC99-3712-43B4-889B-A72AF1E3B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4CA786-A8DC-42EB-8090-369772419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3BDD45-6245-44CB-80CF-2220EB8A8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57D79F-A027-42A0-94F3-1E4D8B80C2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EF063-1496-4225-B6C6-F91A3A346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9B7B6E-7282-435F-BF19-15EBED15B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43C370-AFCF-4D09-B8CB-6D30194DE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FB69F-C115-42B4-915B-C9C8AF481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2305C8-B6BD-4311-B8FC-3B76DB427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76BA6-F1FE-49C4-BEF0-5CD9FC9BD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BD9FED-2B7E-4814-8030-E0C1B83A1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D43FE9-4B9B-4B23-AE0B-C0FDDBB88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FD988-BEAB-4577-9C30-884512999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0548DE-0631-4521-98AA-91978D9015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F85D8-2B8E-45FC-B1E2-FF33811746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65231-4084-4B0C-AED4-9013B205FE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FEC7A9-671C-4C0A-B13A-9028ED644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60E7C8-1156-4A35-A483-ED73BA8DBDC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4BF4-1928-4F13-BE0B-97A2937FDD9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26B5-CC48-48D5-AE22-6F0DE6578DA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40C8-138A-429D-8567-F2596801D69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858F-8046-4106-8037-68D5C19412D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CCC8-D891-4EC5-815C-8CD4F76F1C3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0FCC-A88A-40E1-A78B-416F9C5EB22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6333-F74C-41B3-8468-86928E18A88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F77F-9D3E-4A1F-B492-F64A5AA8BEB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FD58-9B49-4680-AF7B-5AA2FCE1ADF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0374-418C-4E4F-8BA3-1A6220D2EE1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A93E-49F1-4923-B732-966BE6989F8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4920" y="2997000"/>
            <a:ext cx="33130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2</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Address</a:t>
            </a:r>
            <a:endParaRPr b="0" lang="en-US" sz="4400" spc="-1" strike="noStrike">
              <a:solidFill>
                <a:srgbClr val="7ccfdb"/>
              </a:solidFill>
              <a:latin typeface="Arial"/>
            </a:endParaRPr>
          </a:p>
        </p:txBody>
      </p:sp>
      <p:sp>
        <p:nvSpPr>
          <p:cNvPr id="571" name="Text Placeholder 2"/>
          <p:cNvSpPr/>
          <p:nvPr/>
        </p:nvSpPr>
        <p:spPr>
          <a:xfrm>
            <a:off x="468360" y="1916280"/>
            <a:ext cx="8280360" cy="42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travelling on a Network are sent as packets</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device on the internet has a unique IP address which is sent with the packets to identify which computer to send the data to.</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dress is broken down into four numbers which can represent a number between 0 and 255 separated by a full sto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Classes</a:t>
            </a:r>
            <a:endParaRPr b="0" lang="en-US" sz="4400" spc="-1" strike="noStrike">
              <a:solidFill>
                <a:srgbClr val="7ccfdb"/>
              </a:solidFill>
              <a:latin typeface="Arial"/>
            </a:endParaRPr>
          </a:p>
        </p:txBody>
      </p:sp>
      <p:sp>
        <p:nvSpPr>
          <p:cNvPr id="573" name="Text Placeholder 2"/>
          <p:cNvSpPr/>
          <p:nvPr/>
        </p:nvSpPr>
        <p:spPr>
          <a:xfrm>
            <a:off x="468360" y="1413000"/>
            <a:ext cx="8280360" cy="47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P addresses also have different classes which identify the class of Network that the user is on.  </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indicates the number of total possible users and the purpose of the network</a:t>
            </a:r>
            <a:endParaRPr b="0" lang="en-US" sz="3200" spc="-1" strike="noStrike">
              <a:solidFill>
                <a:srgbClr val="000000"/>
              </a:solidFill>
              <a:latin typeface="Calibri"/>
            </a:endParaRPr>
          </a:p>
        </p:txBody>
      </p:sp>
      <p:pic>
        <p:nvPicPr>
          <p:cNvPr id="574" name="Picture 3" descr=""/>
          <p:cNvPicPr/>
          <p:nvPr/>
        </p:nvPicPr>
        <p:blipFill>
          <a:blip r:embed="rId1"/>
          <a:stretch/>
        </p:blipFill>
        <p:spPr>
          <a:xfrm>
            <a:off x="3165480" y="4292640"/>
            <a:ext cx="2558880" cy="173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MAC address</a:t>
            </a:r>
            <a:endParaRPr b="0" lang="en-US" sz="4400" spc="-1" strike="noStrike">
              <a:solidFill>
                <a:srgbClr val="7ccfdb"/>
              </a:solidFill>
              <a:latin typeface="Arial"/>
            </a:endParaRPr>
          </a:p>
        </p:txBody>
      </p:sp>
      <p:sp>
        <p:nvSpPr>
          <p:cNvPr id="576" name="Text Placeholder 2"/>
          <p:cNvSpPr/>
          <p:nvPr/>
        </p:nvSpPr>
        <p:spPr>
          <a:xfrm>
            <a:off x="468360" y="1268280"/>
            <a:ext cx="849636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 addresses, or Media Access Control Addresses, uniquely identify a device on a network by identifying the network adapter that the device is using.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enables you to distinguish between different devic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y th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a windows computer you can locate your MAC addr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 to the start menu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e cm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e ipconfig/ al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 address is listed as ‘Physical Addr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MAC address</a:t>
            </a:r>
            <a:endParaRPr b="0" lang="en-US" sz="4400" spc="-1" strike="noStrike">
              <a:solidFill>
                <a:srgbClr val="7ccfdb"/>
              </a:solidFill>
              <a:latin typeface="Arial"/>
            </a:endParaRPr>
          </a:p>
        </p:txBody>
      </p:sp>
      <p:sp>
        <p:nvSpPr>
          <p:cNvPr id="578" name="Text Placeholder 2"/>
          <p:cNvSpPr/>
          <p:nvPr/>
        </p:nvSpPr>
        <p:spPr>
          <a:xfrm>
            <a:off x="468360" y="1484280"/>
            <a:ext cx="8496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C address is embedded into the device when it is manufactured and the owner cannot change it. </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AC address is a unique code which is built into the Network Interface Card (NIC)</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ach address is individual and is made up of 48 bits, usually written in hexadecimal for e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MAC address</a:t>
            </a:r>
            <a:endParaRPr b="0" lang="en-US" sz="4400" spc="-1" strike="noStrike">
              <a:solidFill>
                <a:srgbClr val="7ccfdb"/>
              </a:solidFill>
              <a:latin typeface="Arial"/>
            </a:endParaRPr>
          </a:p>
        </p:txBody>
      </p:sp>
      <p:sp>
        <p:nvSpPr>
          <p:cNvPr id="580" name="Text Placeholder 2"/>
          <p:cNvSpPr/>
          <p:nvPr/>
        </p:nvSpPr>
        <p:spPr>
          <a:xfrm>
            <a:off x="468360" y="2205000"/>
            <a:ext cx="8496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34-G4-44-23-F1</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uses hexadecimal as a number ba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Ques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would it use Hexadecimal over Bin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rotocols</a:t>
            </a:r>
            <a:endParaRPr b="0" lang="en-US" sz="4400" spc="-1" strike="noStrike">
              <a:solidFill>
                <a:srgbClr val="7ccfdb"/>
              </a:solidFill>
              <a:latin typeface="Arial"/>
            </a:endParaRPr>
          </a:p>
        </p:txBody>
      </p:sp>
      <p:sp>
        <p:nvSpPr>
          <p:cNvPr id="582" name="Text Placeholder 2"/>
          <p:cNvSpPr/>
          <p:nvPr/>
        </p:nvSpPr>
        <p:spPr>
          <a:xfrm>
            <a:off x="468360" y="2637000"/>
            <a:ext cx="8496360" cy="33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twork protocols are a set of rules or conventions which control the communication between devices on a net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Protocols</a:t>
            </a:r>
            <a:endParaRPr b="0" lang="en-US" sz="4400" spc="-1" strike="noStrike">
              <a:solidFill>
                <a:srgbClr val="7ccfdb"/>
              </a:solidFill>
              <a:latin typeface="Arial"/>
            </a:endParaRPr>
          </a:p>
        </p:txBody>
      </p:sp>
      <p:sp>
        <p:nvSpPr>
          <p:cNvPr id="584"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Transmission Control Protocol/Internet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Hyper Text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Hyper Text Transfer Protocol Secu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File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Post Office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Internet Message Access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 (Simple Mail Transfer Protoc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86"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iefly research the purpose of each Protocol</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oose one of the protocols and create a poster which explains to the reader what the protocol is, its features.  Include a diagram and examples</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 these posters with other stud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xplanation Videos</a:t>
            </a:r>
            <a:endParaRPr b="0" lang="en-US" sz="4400" spc="-1" strike="noStrike">
              <a:solidFill>
                <a:srgbClr val="7ccfdb"/>
              </a:solidFill>
              <a:latin typeface="Arial"/>
            </a:endParaRPr>
          </a:p>
        </p:txBody>
      </p:sp>
      <p:sp>
        <p:nvSpPr>
          <p:cNvPr id="588"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Overview:</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WmymBI-X7T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www.youtube.com/watch?v=zyL1Fud1Z1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AP vs POP3: https://www.youtube.com/watch?v=BK4ng6Gc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Do you know your Protocols?</a:t>
            </a:r>
            <a:endParaRPr b="0" lang="en-US" sz="4400" spc="-1" strike="noStrike">
              <a:solidFill>
                <a:srgbClr val="7ccfdb"/>
              </a:solidFill>
              <a:latin typeface="Arial"/>
            </a:endParaRPr>
          </a:p>
        </p:txBody>
      </p:sp>
      <p:sp>
        <p:nvSpPr>
          <p:cNvPr id="590"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the previous lesson students were introduced to types of Networks.  </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lesson students will learn how IP addressing, MAC addressing and Protocols support the access and to Net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3200" spc="-1" strike="noStrike">
                <a:solidFill>
                  <a:srgbClr val="ffffff"/>
                </a:solidFill>
                <a:latin typeface="Arial"/>
              </a:rPr>
              <a:t>Do you know your Protocols? - Answers</a:t>
            </a:r>
            <a:endParaRPr b="0" lang="en-US" sz="3200" spc="-1" strike="noStrike">
              <a:solidFill>
                <a:srgbClr val="7ccfdb"/>
              </a:solidFill>
              <a:latin typeface="Arial"/>
            </a:endParaRPr>
          </a:p>
        </p:txBody>
      </p:sp>
      <p:sp>
        <p:nvSpPr>
          <p:cNvPr id="592"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IP (Transmission Control Protocol/Internet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Hyper Text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 (Hyper Text Transfer Protocol Secur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P (File Transfer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 (Post Office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P (Internet Message Access Protoco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 (Simple Mail Transfer Protoc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3</a:t>
            </a:r>
            <a:endParaRPr b="0" lang="en-US" sz="4400" spc="-1" strike="noStrike">
              <a:solidFill>
                <a:srgbClr val="7ccfdb"/>
              </a:solidFill>
              <a:latin typeface="Arial"/>
            </a:endParaRPr>
          </a:p>
        </p:txBody>
      </p:sp>
      <p:sp>
        <p:nvSpPr>
          <p:cNvPr id="594"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the table you are given</a:t>
            </a:r>
            <a:endParaRPr b="0" lang="en-US" sz="2800" spc="-1" strike="noStrike">
              <a:solidFill>
                <a:srgbClr val="000000"/>
              </a:solidFill>
              <a:latin typeface="Calibri"/>
            </a:endParaRPr>
          </a:p>
          <a:p>
            <a:pPr lvl="1" marL="971640" indent="-571680">
              <a:lnSpc>
                <a:spcPct val="100000"/>
              </a:lnSpc>
              <a:spcBef>
                <a:spcPts val="700"/>
              </a:spcBef>
              <a:spcAft>
                <a:spcPts val="1199"/>
              </a:spcAft>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have 10 minutes to complete it</a:t>
            </a:r>
            <a:endParaRPr b="0" lang="en-US" sz="2800" spc="-1" strike="noStrike">
              <a:solidFill>
                <a:srgbClr val="000000"/>
              </a:solidFill>
              <a:latin typeface="Calibri"/>
            </a:endParaRPr>
          </a:p>
          <a:p>
            <a:pPr lvl="1" marL="971640" indent="-571680">
              <a:lnSpc>
                <a:spcPct val="100000"/>
              </a:lnSpc>
              <a:spcBef>
                <a:spcPts val="700"/>
              </a:spcBef>
              <a:spcAft>
                <a:spcPts val="1199"/>
              </a:spcAft>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ay use notes to help you</a:t>
            </a:r>
            <a:endParaRPr b="0" lang="en-US" sz="2800" spc="-1" strike="noStrike">
              <a:solidFill>
                <a:srgbClr val="000000"/>
              </a:solidFill>
              <a:latin typeface="Calibri"/>
            </a:endParaRPr>
          </a:p>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k for help from others if you are totally stuck</a:t>
            </a:r>
            <a:endParaRPr b="0" lang="en-US" sz="2800" spc="-1" strike="noStrike">
              <a:solidFill>
                <a:srgbClr val="000000"/>
              </a:solidFill>
              <a:latin typeface="Calibri"/>
            </a:endParaRPr>
          </a:p>
          <a:p>
            <a:pPr marL="514440" indent="-514440">
              <a:lnSpc>
                <a:spcPct val="100000"/>
              </a:lnSpc>
              <a:spcBef>
                <a:spcPts val="700"/>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re your answers with others around you and add post-it notes for corr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596" name="Text Placeholder 2"/>
          <p:cNvSpPr/>
          <p:nvPr/>
        </p:nvSpPr>
        <p:spPr>
          <a:xfrm>
            <a:off x="468360" y="1628640"/>
            <a:ext cx="8496360" cy="439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BC Online test: http://www.bbc.co.uk/education/guides/zp9jpv4/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6"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what the main IP Addressing, MAC Addressing and protocols are</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recall a range of protocol acronyms</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some of the protocols 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hat is a Network?</a:t>
            </a:r>
            <a:endParaRPr b="0" lang="en-US" sz="4400" spc="-1" strike="noStrike">
              <a:solidFill>
                <a:srgbClr val="7ccfdb"/>
              </a:solidFill>
              <a:latin typeface="Arial"/>
            </a:endParaRPr>
          </a:p>
        </p:txBody>
      </p:sp>
      <p:sp>
        <p:nvSpPr>
          <p:cNvPr id="558"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omputer network is a number of computers linked together to allow them to share resources. Networked computers can share </a:t>
            </a:r>
            <a:r>
              <a:rPr b="1" i="1" lang="en-GB" sz="3200" spc="-1" strike="noStrike">
                <a:solidFill>
                  <a:srgbClr val="77933c"/>
                </a:solidFill>
                <a:latin typeface="Arial"/>
              </a:rPr>
              <a:t>hardware</a:t>
            </a:r>
            <a:r>
              <a:rPr b="0" lang="en-GB" sz="3200" spc="-1" strike="noStrike">
                <a:solidFill>
                  <a:srgbClr val="000000"/>
                </a:solidFill>
                <a:latin typeface="Arial"/>
              </a:rPr>
              <a:t>, </a:t>
            </a:r>
            <a:r>
              <a:rPr b="1" i="1" lang="en-GB" sz="3200" spc="-1" strike="noStrike">
                <a:solidFill>
                  <a:srgbClr val="77933c"/>
                </a:solidFill>
                <a:latin typeface="Arial"/>
              </a:rPr>
              <a:t>software</a:t>
            </a:r>
            <a:r>
              <a:rPr b="0" lang="en-GB" sz="3200" spc="-1" strike="noStrike">
                <a:solidFill>
                  <a:srgbClr val="000000"/>
                </a:solidFill>
                <a:latin typeface="Arial"/>
              </a:rPr>
              <a:t> and </a:t>
            </a:r>
            <a:r>
              <a:rPr b="1" i="1" lang="en-GB" sz="3200" spc="-1" strike="noStrike">
                <a:solidFill>
                  <a:srgbClr val="77933c"/>
                </a:solidFill>
                <a:latin typeface="Arial"/>
              </a:rPr>
              <a:t>data</a:t>
            </a:r>
            <a:r>
              <a:rPr b="0" lang="en-GB" sz="3200" spc="-1" strike="noStrike">
                <a:solidFill>
                  <a:srgbClr val="000000"/>
                </a:solidFill>
                <a:latin typeface="Arial"/>
              </a:rPr>
              <a:t>.</a:t>
            </a: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also that connected devices could be printers, tablets, laptops or a webc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60"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ins) Think of all of the words that are related to network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mins) Share and copy down other words from other students in the cla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mins) select 5 words and write a simple definition dow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mins) use the internet to find definitions of 3 of the words you do not kn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2"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 Address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Address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ols</a:t>
            </a:r>
            <a:r>
              <a:rPr b="0" lang="en-U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IP Address</a:t>
            </a:r>
            <a:endParaRPr b="0" lang="en-US" sz="4400" spc="-1" strike="noStrike">
              <a:solidFill>
                <a:srgbClr val="7ccfdb"/>
              </a:solidFill>
              <a:latin typeface="Arial"/>
            </a:endParaRPr>
          </a:p>
        </p:txBody>
      </p:sp>
      <p:sp>
        <p:nvSpPr>
          <p:cNvPr id="56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unique string of numbers separated by full stops that identifies each computer using the Internet Protocol to communicate over a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re similar to as a postcode that is used to identify a house in a county on a stre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n example IP address</a:t>
            </a:r>
            <a:endParaRPr b="0" lang="en-US" sz="4400" spc="-1" strike="noStrike">
              <a:solidFill>
                <a:srgbClr val="7ccfdb"/>
              </a:solidFill>
              <a:latin typeface="Arial"/>
            </a:endParaRPr>
          </a:p>
        </p:txBody>
      </p:sp>
      <p:sp>
        <p:nvSpPr>
          <p:cNvPr id="566"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192.168.1.23</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IP addresses</a:t>
            </a:r>
            <a:endParaRPr b="0" lang="en-US" sz="4400" spc="-1" strike="noStrike">
              <a:solidFill>
                <a:srgbClr val="7ccfdb"/>
              </a:solidFill>
              <a:latin typeface="Arial"/>
            </a:endParaRPr>
          </a:p>
        </p:txBody>
      </p:sp>
      <p:sp>
        <p:nvSpPr>
          <p:cNvPr id="568"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e website “What is my IP address” to find your IP addr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my be the same as another students. wh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lass is the IP address.</a:t>
            </a:r>
            <a:endParaRPr b="0" lang="en-US" sz="3200" spc="-1" strike="noStrike">
              <a:solidFill>
                <a:srgbClr val="000000"/>
              </a:solidFill>
              <a:latin typeface="Calibri"/>
            </a:endParaRPr>
          </a:p>
        </p:txBody>
      </p:sp>
      <p:pic>
        <p:nvPicPr>
          <p:cNvPr id="569" name="Picture 2" descr="Whatismyipaddress logo"/>
          <p:cNvPicPr/>
          <p:nvPr/>
        </p:nvPicPr>
        <p:blipFill>
          <a:blip r:embed="rId1"/>
          <a:stretch/>
        </p:blipFill>
        <p:spPr>
          <a:xfrm>
            <a:off x="3203640" y="4653000"/>
            <a:ext cx="2732040" cy="9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IT Networks. topologies protocols</cp:keywords>
  <dc:language>en-US</dc:language>
  <cp:lastModifiedBy>Ganka Taneva</cp:lastModifiedBy>
  <dcterms:modified xsi:type="dcterms:W3CDTF">2016-06-20T12:07:45Z</dcterms:modified>
  <cp:revision>37</cp:revision>
  <dc:subject/>
  <dc:title>GCSE (9-1) Computer Science 1.5 Lesson 2</dc:title>
</cp:coreProperties>
</file>